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E77-9321-47E3-AEF6-27C1557E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352-7357-4A1E-9A24-48EC19E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367-CCF6-480F-98D1-A0191984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0B0-A018-4A52-971A-2A20E217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4E8-4CF6-4A3A-8341-BD406D2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BD5-818C-4B60-BE3B-5E27899C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C80-FDEE-4C4F-9411-AD21FF5C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8E6-68DA-4A0A-92D9-5D24F56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0FA-906E-4E03-B2E6-2C01E4CE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978-97F0-4F4A-8574-C4E520A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ACD-2736-4E6D-BB6A-4C7F548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6F7-8C17-48F5-A69C-5D1EB20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1F8B-5E94-44A2-9D09-D5041CA5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066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of chemistry that studies energy changes which take place during reactions and changes in state of matter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mo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= energy of position/stored energy.  But in chemistry we have chemical potential energy = energy stored in the chemical bonds of a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352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much energy stored is determined by kinds of atoms and how they are arr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038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nergy that transfers from one object to another due to a difference in temperature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does heat transfer? From the WARMER to the COLD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symbol 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609480" y="1754280"/>
          <a:ext cx="866160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4280"/>
                    <a:ext cx="86616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cific heat of a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t capacity of a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t of reaction for a chem.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lorie given off by a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rShape1"/>
          <p:cNvSpPr/>
          <p:nvPr/>
        </p:nvSpPr>
        <p:spPr>
          <a:xfrm rot="10800000">
            <a:off x="1193760" y="327168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heat released by the complete burning of 1 mol of a substance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of combu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of 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conservation of energy =matter will neither be created nor destroyed, including chemical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371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means if a system gives off heat (loses), it must go somewhere, therefore it goes into the surrounding area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0481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 – system gains heat as the surroundings cool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at i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l01578_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16720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4419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son is absorb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heat given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xothermic – system loses heat as the surroundings hea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iving off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D00017_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665280" cy="187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1600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the body (system) loses heat to the surroundings (skin/air)—sweat/pers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28600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74320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12408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90512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352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movement is measured 2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809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alories – quantity of heat needed to raise the temp. of 1 g of pure water 1 deg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Joule – SI unit of ener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capacity = how much heat is needed to raise the temp of an object 1 deg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479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pend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82880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– more mass of the object, more heat it can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make-up – different substance can have diff. Heat capacity even though mass may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505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f course, we cant call it just heat capacity, we have to change the name = specific he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191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heat needed to raise the temp of 1 g of the stuff 1 deg 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5029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PY FORMULA FROM PAGE 5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4 Note Guide, part d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alpy = heat content of a system at constan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hemical reaction, the enthalpy change for the reaction can be written as either a reactant or a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438280"/>
            <a:ext cx="7619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ium oxide and water react 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(s)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 65.2 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ats of reaction usually shown as Δ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3526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of reaction = enthalpy change for the chemical equation exactly as it is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72428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(s)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   ΔH =-65.2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ther reactions are endotherm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 decomposes when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67652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 129 kJ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g)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H=129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514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amount of heat released or absorbed during a reaction depends on the number of moles of the reactants invov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76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516 Sample problem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of combustion = heat of reaction for the complete burning of one mole of a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ly, the actual yield in a chemical reaction will be equal to or less than the theoretical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product can be determined from the amount of excess re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CorShape1"/>
          <p:cNvSpPr/>
          <p:nvPr/>
        </p:nvSpPr>
        <p:spPr>
          <a:xfrm>
            <a:off x="3200400" y="289548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likely happen if you were to touch the flask in which an endothermic reaction were occu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85640" y="1752480"/>
          <a:ext cx="86583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752480"/>
                    <a:ext cx="86583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probably feel cooler than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probably feel warmer than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feel the same as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 rot="10800000">
            <a:off x="1050840" y="2976480"/>
            <a:ext cx="432000" cy="432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5:19:29Z</dcterms:created>
  <dc:creator>jpak</dc:creator>
  <dc:description/>
  <dc:language>en-US</dc:language>
  <cp:lastModifiedBy>Customer</cp:lastModifiedBy>
  <dcterms:modified xsi:type="dcterms:W3CDTF">2010-01-21T16:51:42Z</dcterms:modified>
  <cp:revision>21</cp:revision>
  <dc:subject/>
  <dc:title>Note Guide 7-4</dc:title>
</cp:coreProperties>
</file>